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FBE3-F61B-466B-9A96-3049AF15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12A4-3623-4BF9-B6BD-604F1B14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44C1-45DE-43CB-A884-00EC9642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B91E-F7D1-42A5-8BC1-689BCB2E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CEAF-1859-4D3D-9000-958A96F9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A08-ABAF-49AC-9C05-DBE89520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32FE-2F72-4481-A145-C57890F1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0252-5AC1-482F-A3B6-68EBE3D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83C1-82B6-44EB-B44B-773F0389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88C3-8548-4567-A863-26121159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6DBC-C7CC-4B1D-AD50-E988054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ECAF-F9D3-4266-AB90-981F78E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0B3B-5147-479B-AC3F-3AB9EFD4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2B8B-7BF5-4565-A840-40311224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C693-AEC3-49CF-9A4A-C39D9505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E3D9-92AA-45BD-BA62-ABCF4C9B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2BA7-94A2-425C-9C92-AE839422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4A73-5F34-44BE-8388-CC73AB12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B238-72EA-45C4-96F0-E97A4F14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C2FA-380D-4AB6-A52C-F2574250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06C6-2D72-428F-ACE5-04FC1476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2D1A-BB0D-48AD-B66E-58DEAFAF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F52C-5E9C-4C80-B571-36B9D03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5AEF-8C72-4831-A8CE-016B767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6F2-D853-4ED3-96E2-F8D422DE1C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1180-3AAE-4312-9B05-61EAB23115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5e5ff"/>
                </a:solidFill>
                <a:latin typeface="Comic Sans MS"/>
              </a:rPr>
              <a:t>The Chemistry of Respi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175" name=""/>
            <p:cNvGrpSpPr/>
            <p:nvPr/>
          </p:nvGrpSpPr>
          <p:grpSpPr>
            <a:xfrm>
              <a:off x="2415600" y="2565360"/>
              <a:ext cx="4048560" cy="2950920"/>
              <a:chOff x="2415600" y="2565360"/>
              <a:chExt cx="4048560" cy="2950920"/>
            </a:xfrm>
          </p:grpSpPr>
          <p:sp>
            <p:nvSpPr>
              <p:cNvPr id="176" name=""/>
              <p:cNvSpPr/>
              <p:nvPr/>
            </p:nvSpPr>
            <p:spPr>
              <a:xfrm flipH="1" flipV="1">
                <a:off x="3607200" y="2755080"/>
                <a:ext cx="1712520" cy="21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426" y="3153"/>
                    </a:moveTo>
                    <a:arcTo wR="10800" hR="10800" stAng="-2704825" swAng="55472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426" y="3153"/>
                    </a:moveTo>
                    <a:arcTo wR="10800" hR="10800" stAng="-2704825" swAng="5547297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22440" y="2836080"/>
                <a:ext cx="1712520" cy="21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42" y="707"/>
                    </a:moveTo>
                    <a:arcTo wR="10800" hR="10800" stAng="-4149562" swAng="6887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42" y="707"/>
                    </a:moveTo>
                    <a:arcTo wR="10800" hR="10800" stAng="-4149562" swAng="6887696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flipV="1">
                <a:off x="4750560" y="2565360"/>
                <a:ext cx="1713240" cy="10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860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860525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415600" y="3265560"/>
                <a:ext cx="1243440" cy="74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992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992453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189" name=""/>
            <p:cNvGrpSpPr/>
            <p:nvPr/>
          </p:nvGrpSpPr>
          <p:grpSpPr>
            <a:xfrm>
              <a:off x="2415600" y="2565360"/>
              <a:ext cx="4048560" cy="2950920"/>
              <a:chOff x="2415600" y="2565360"/>
              <a:chExt cx="4048560" cy="2950920"/>
            </a:xfrm>
          </p:grpSpPr>
          <p:sp>
            <p:nvSpPr>
              <p:cNvPr id="190" name=""/>
              <p:cNvSpPr/>
              <p:nvPr/>
            </p:nvSpPr>
            <p:spPr>
              <a:xfrm flipH="1" flipV="1">
                <a:off x="3607200" y="2755080"/>
                <a:ext cx="1712520" cy="219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426" y="3153"/>
                    </a:moveTo>
                    <a:arcTo wR="10800" hR="10800" stAng="-2704825" swAng="55472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426" y="3153"/>
                    </a:moveTo>
                    <a:arcTo wR="10800" hR="10800" stAng="-2704825" swAng="5547297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322440" y="2836080"/>
                <a:ext cx="1712520" cy="21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642" y="707"/>
                    </a:moveTo>
                    <a:arcTo wR="10800" hR="10800" stAng="-4149562" swAng="68876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642" y="707"/>
                    </a:moveTo>
                    <a:arcTo wR="10800" hR="10800" stAng="-4149562" swAng="6887696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4750560" y="2565360"/>
                <a:ext cx="1713240" cy="107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8605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860525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415600" y="3265560"/>
                <a:ext cx="1243440" cy="74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9924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992453"/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 u="sng">
                <a:solidFill>
                  <a:srgbClr val="e5e5ff"/>
                </a:solidFill>
                <a:uFillTx/>
                <a:latin typeface="Comic Sans MS"/>
              </a:rPr>
              <a:t>Aerobic Respi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5e5ff"/>
                </a:solidFill>
                <a:latin typeface="Comic Sans MS"/>
              </a:rPr>
              <a:t>glucose + </a:t>
            </a:r>
            <a:r>
              <a:rPr b="0" lang="en-GB" sz="2400" spc="-1" strike="noStrike">
                <a:solidFill>
                  <a:srgbClr val="e5e5ff"/>
                </a:solidFill>
                <a:latin typeface="Comic Sans MS"/>
              </a:rPr>
              <a:t>OXYGEN    </a:t>
            </a:r>
            <a:r>
              <a:rPr b="0" lang="en-GB" sz="2400" spc="-1" strike="noStrike">
                <a:solidFill>
                  <a:srgbClr val="e5e5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e5e5ff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1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Comic Sans MS"/>
              </a:rPr>
              <a:t>Aerobic respiration happens in </a:t>
            </a:r>
            <a:r>
              <a:rPr b="0" lang="en-GB" sz="3600" spc="-1" strike="noStrike">
                <a:solidFill>
                  <a:srgbClr val="e5e5ff"/>
                </a:solidFill>
                <a:latin typeface="Comic Sans MS"/>
              </a:rPr>
              <a:t>2</a:t>
            </a:r>
            <a:r>
              <a:rPr b="1" lang="en-GB" sz="3600" spc="-1" strike="noStrike">
                <a:solidFill>
                  <a:srgbClr val="e5e5ff"/>
                </a:solidFill>
                <a:latin typeface="Comic Sans MS"/>
              </a:rPr>
              <a:t> stages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a886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57840" y="894600"/>
            <a:ext cx="2862720" cy="3712320"/>
            <a:chOff x="2157840" y="894600"/>
            <a:chExt cx="2862720" cy="3712320"/>
          </a:xfrm>
        </p:grpSpPr>
        <p:sp>
          <p:nvSpPr>
            <p:cNvPr id="213" name="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 rot="17146200">
              <a:off x="2490840" y="1093680"/>
              <a:ext cx="2196000" cy="23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49" y="439"/>
                  </a:moveTo>
                  <a:arcTo wR="10800" hR="10800" stAng="-4416040" swAng="4066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49" y="439"/>
                  </a:moveTo>
                  <a:arcTo wR="10800" hR="10800" stAng="-4416040" swAng="4066065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86e0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a886e0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a886e0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5e5ff"/>
                </a:solidFill>
                <a:latin typeface="Comic Sans MS"/>
              </a:rPr>
              <a:t>Stage 2 – </a:t>
            </a:r>
            <a:r>
              <a:rPr b="0" lang="en-GB" sz="3600" spc="-1" strike="noStrike" u="sng">
                <a:solidFill>
                  <a:srgbClr val="e5e5ff"/>
                </a:solidFill>
                <a:uFillTx/>
                <a:latin typeface="Comic Sans MS"/>
              </a:rPr>
              <a:t>Breakdown of pyruvic acid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a886e0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86e0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886e0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83080" y="91440"/>
            <a:ext cx="3560400" cy="5305680"/>
            <a:chOff x="3583080" y="91440"/>
            <a:chExt cx="3560400" cy="5305680"/>
          </a:xfrm>
        </p:grpSpPr>
        <p:sp>
          <p:nvSpPr>
            <p:cNvPr id="227" name="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 rot="4453800">
              <a:off x="3753720" y="623160"/>
              <a:ext cx="3218760" cy="279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49" y="439"/>
                  </a:moveTo>
                  <a:arcTo wR="10800" hR="10800" stAng="-4416040" swAng="40660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49" y="439"/>
                  </a:moveTo>
                  <a:arcTo wR="10800" hR="10800" stAng="-4416040" swAng="4066065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Comic Sans MS"/>
              </a:rPr>
              <a:t>ATP production</a:t>
            </a:r>
            <a:r>
              <a:rPr b="1" lang="en-GB" sz="4400" spc="-1" strike="noStrike">
                <a:solidFill>
                  <a:srgbClr val="e5e5ff"/>
                </a:solidFill>
                <a:latin typeface="Comic Sans MS"/>
              </a:rPr>
              <a:t> – </a:t>
            </a:r>
            <a:r>
              <a:rPr b="0" lang="en-GB" sz="4400" spc="-1" strike="noStrike">
                <a:solidFill>
                  <a:srgbClr val="e5e5ff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804840" y="4005360"/>
            <a:ext cx="2712600" cy="1871640"/>
            <a:chOff x="3804840" y="4005360"/>
            <a:chExt cx="2712600" cy="1871640"/>
          </a:xfrm>
        </p:grpSpPr>
        <p:sp>
          <p:nvSpPr>
            <p:cNvPr id="231" name=""/>
            <p:cNvSpPr/>
            <p:nvPr/>
          </p:nvSpPr>
          <p:spPr>
            <a:xfrm flipH="1" rot="10263000">
              <a:off x="3847680" y="4605480"/>
              <a:ext cx="262620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a886e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a886e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23560" y="2133720"/>
            <a:ext cx="2676240" cy="1295280"/>
            <a:chOff x="3823560" y="2133720"/>
            <a:chExt cx="2676240" cy="1295280"/>
          </a:xfrm>
        </p:grpSpPr>
        <p:sp>
          <p:nvSpPr>
            <p:cNvPr id="239" name=""/>
            <p:cNvSpPr/>
            <p:nvPr/>
          </p:nvSpPr>
          <p:spPr>
            <a:xfrm flipH="1" rot="10263000">
              <a:off x="3848400" y="2520720"/>
              <a:ext cx="2626200" cy="52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a886e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a886e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Comic Sans MS"/>
              </a:rPr>
              <a:t>Summary of ATP 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GB" sz="5400" spc="-1" strike="noStrike" u="sng">
                <a:solidFill>
                  <a:srgbClr val="e5e5ff"/>
                </a:solidFill>
                <a:uFillTx/>
                <a:latin typeface="Comic Sans MS"/>
              </a:rPr>
              <a:t>Anaerobic Respiration</a:t>
            </a:r>
            <a:br>
              <a:rPr sz="5400"/>
            </a:br>
            <a:r>
              <a:rPr b="0" lang="en-GB" sz="5400" spc="-1" strike="noStrike" u="sng">
                <a:solidFill>
                  <a:srgbClr val="e5e5ff"/>
                </a:solidFill>
                <a:uFillTx/>
                <a:latin typeface="Comic Sans MS"/>
              </a:rPr>
              <a:t>(in animals)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Garamond"/>
              </a:rPr>
              <a:t>Adenosine triphosph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Garamond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Garamond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Garamond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Garamond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Garamond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Garamond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a886e0"/>
                </a:solidFill>
                <a:latin typeface="Comic Sans MS"/>
              </a:rPr>
              <a:t>In </a:t>
            </a:r>
            <a:r>
              <a:rPr b="0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1" lang="en-GB" sz="4000" spc="-1" strike="noStrike">
                <a:solidFill>
                  <a:srgbClr val="a886e0"/>
                </a:solidFill>
                <a:latin typeface="Comic Sans MS"/>
              </a:rPr>
              <a:t> oxygen conditions or during </a:t>
            </a:r>
            <a:r>
              <a:rPr b="0" lang="en-GB" sz="4000" spc="-1" strike="noStrike">
                <a:solidFill>
                  <a:srgbClr val="a886e0"/>
                </a:solidFill>
                <a:latin typeface="Comic Sans MS"/>
              </a:rPr>
              <a:t>heavy exercise</a:t>
            </a:r>
            <a:r>
              <a:rPr b="1" lang="en-GB" sz="4000" spc="-1" strike="noStrike">
                <a:solidFill>
                  <a:srgbClr val="a886e0"/>
                </a:solidFill>
                <a:latin typeface="Comic Sans MS"/>
              </a:rPr>
              <a:t>, when not enough oxygen can be supplied, muscle cells swap to </a:t>
            </a:r>
            <a:r>
              <a:rPr b="0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0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1" lang="en-GB" sz="40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514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28320" y="907920"/>
            <a:ext cx="4565520" cy="2308320"/>
            <a:chOff x="3928320" y="907920"/>
            <a:chExt cx="4565520" cy="2308320"/>
          </a:xfrm>
        </p:grpSpPr>
        <p:sp>
          <p:nvSpPr>
            <p:cNvPr id="249" name=""/>
            <p:cNvSpPr/>
            <p:nvPr/>
          </p:nvSpPr>
          <p:spPr>
            <a:xfrm flipH="1" rot="10263000">
              <a:off x="3990600" y="1282320"/>
              <a:ext cx="4440960" cy="11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cc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A build up of lactic acid produces 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A recovery period is needed.  During this time more </a:t>
            </a:r>
            <a:r>
              <a:rPr b="0" lang="en-GB" sz="2800" spc="-1" strike="noStrike" u="sng">
                <a:solidFill>
                  <a:srgbClr val="e5e5ff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5e5ff"/>
                </a:solidFill>
                <a:latin typeface="Comic Sans MS"/>
              </a:rPr>
              <a:t>The volume of oxygen needed is called the 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e5e5ff"/>
                </a:solidFill>
                <a:uFillTx/>
                <a:latin typeface="Comic Sans MS"/>
              </a:rPr>
              <a:t>Anaerobic Respiration </a:t>
            </a:r>
            <a:br>
              <a:rPr sz="5400"/>
            </a:br>
            <a:r>
              <a:rPr b="0" lang="en-GB" sz="5400" spc="-1" strike="noStrike" u="sng">
                <a:solidFill>
                  <a:srgbClr val="e5e5ff"/>
                </a:solidFill>
                <a:uFillTx/>
                <a:latin typeface="Comic Sans MS"/>
              </a:rPr>
              <a:t>in plants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425120" y="836640"/>
            <a:ext cx="4604040" cy="2521080"/>
            <a:chOff x="4425120" y="836640"/>
            <a:chExt cx="4604040" cy="2521080"/>
          </a:xfrm>
        </p:grpSpPr>
        <p:sp>
          <p:nvSpPr>
            <p:cNvPr id="274" name=""/>
            <p:cNvSpPr/>
            <p:nvPr/>
          </p:nvSpPr>
          <p:spPr>
            <a:xfrm flipH="1" rot="10263000">
              <a:off x="4494960" y="1259640"/>
              <a:ext cx="4463280" cy="12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05" y="21553"/>
                  </a:moveTo>
                  <a:arcTo wR="10800" hR="10800" stAng="5079516" swAng="109675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05" y="21553"/>
                  </a:moveTo>
                  <a:arcTo wR="10800" hR="10800" stAng="5079516" swAng="10967584"/>
                </a:path>
              </a:pathLst>
            </a:custGeom>
            <a:noFill/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514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e5e5ff"/>
                </a:solidFill>
                <a:uFillTx/>
                <a:latin typeface="Garamond"/>
              </a:rPr>
              <a:t>Comparison of aerobic and anaerobic respi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680"/>
                <a:gridCol w="2031840"/>
                <a:gridCol w="2239920"/>
              </a:tblGrid>
              <a:tr h="426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A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A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A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n dioxide and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ct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l and carbon diox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es ATP d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 u="sng">
                <a:solidFill>
                  <a:srgbClr val="e5e5ff"/>
                </a:solidFill>
                <a:uFillTx/>
                <a:latin typeface="Garamond"/>
              </a:rPr>
              <a:t>Structure of ATP  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109" name="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Comic Sans MS"/>
              </a:rPr>
              <a:t>Formation of AT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121" name="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123" name="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130" name="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ised a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886e0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a886e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e5e5ff"/>
                </a:solidFill>
                <a:uFillTx/>
                <a:latin typeface="Comic Sans MS"/>
              </a:rPr>
              <a:t>The role of AT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151" name="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153" name="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166" name="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23:20:25Z</dcterms:created>
  <dc:creator>clarksl</dc:creator>
  <dc:description/>
  <dc:language>en-US</dc:language>
  <cp:lastModifiedBy>clarksl</cp:lastModifiedBy>
  <dcterms:modified xsi:type="dcterms:W3CDTF">2007-12-09T23:22:24Z</dcterms:modified>
  <cp:revision>2</cp:revision>
  <dc:subject/>
  <dc:title>The Chemistry of Respiration</dc:title>
</cp:coreProperties>
</file>